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DEFDF5-EEBE-4E79-9A0C-868140DDF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81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How to Give Tal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46280" y="2244600"/>
            <a:ext cx="763596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7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ll G. Hopk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Physiology and Physical Education</a:t>
            </a:r>
            <a:br>
              <a:rPr sz="2800"/>
            </a:b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University of Otago</a:t>
            </a:r>
            <a:br>
              <a:rPr sz="2800"/>
            </a:b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Dunedin, New Zea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6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ll@deepsouth.co.n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© 1996 W.G. Hopkins. Copying is permitted for individual nonprofit educational use on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08908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5335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Using Hardwar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281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trol the light pointer.  Use both hands to limit sha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use the blackboard or whiteboard during the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long intervals between slides, put the lights on, and turn off the projector or have a black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4520" y="20383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858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Using Hardwar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468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wo projectors are for expe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un different media in series, not in parall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sure a video is ready to go with the touch of ONE but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4520" y="2190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Question T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the most of it - you usually get helpful sugg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epare answers for some questions.  Use a stooge to ask th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ave extra slides rea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thankful and polite - employers and reviewers may be in the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4520" y="198108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388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5600" y="1758960"/>
            <a:ext cx="820404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 35 mm or PowerPoint at conferen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ake a backup copy of PowerPoint sl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OHP transparencies only for local seminars and last-minute ideas or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ink sim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BIG standard fo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un a spelling che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irrelevant slides of athle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4520" y="1569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[Sport vs science joke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5200" y="457200"/>
            <a:ext cx="86853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79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460520"/>
            <a:ext cx="7932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tle:  include collaborators and fun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xt slides:  e.g. background, research question, methods, results, summ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waste a slide on the above l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relevant joke slide is 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ow many slides?  Count on abou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1-2 minutes per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duplicate slides rather than back track to a previous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4520" y="1371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2520" y="542880"/>
            <a:ext cx="82947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bles and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8525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ver copy them 1:1 from a paper.  Enlarge or redr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lude a ti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a bare minimum of dig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lude SDs, not S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 </a:t>
            </a:r>
            <a:r>
              <a:rPr b="1" lang="en-US" sz="40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* </a:t>
            </a:r>
            <a:r>
              <a:rPr b="1" lang="en-US" sz="36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d  </a:t>
            </a:r>
            <a:r>
              <a:rPr b="1" lang="en-US" sz="40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* *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ather than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val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test statistics 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, F,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χ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4520" y="16765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7160" y="609480"/>
            <a:ext cx="7391520" cy="5772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7160" y="533520"/>
            <a:ext cx="739152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87480" y="1622520"/>
            <a:ext cx="7108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sprint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end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9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i="1" lang="en-US" sz="2800" spc="-1" strike="noStrike">
                <a:solidFill>
                  <a:srgbClr val="99ccff"/>
                </a:solidFill>
                <a:latin typeface="Arial"/>
                <a:ea typeface="Arial"/>
              </a:rPr>
              <a:t>fe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ge (y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2 ± 4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6 ± 5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eight (cm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2 ± 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1 ± 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eight (kg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6 ± 7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3 ± 6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i="1" lang="en-US" sz="2800" spc="-1" strike="noStrike">
                <a:solidFill>
                  <a:srgbClr val="99ccff"/>
                </a:solidFill>
                <a:latin typeface="Arial"/>
                <a:ea typeface="Arial"/>
              </a:rPr>
              <a:t>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ge (y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9 ± 4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5 ± 4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eight (cm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80 ± 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7 ± 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eight (kg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3 ± 8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7 ± 8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 = 96-231.  Data are mean ± S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57160" y="21718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57160" y="585792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09800" y="609480"/>
            <a:ext cx="706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stics of athletes in sprint and endurance s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22400" y="938160"/>
            <a:ext cx="7061040" cy="424332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8080" y="1622520"/>
            <a:ext cx="6375600" cy="1813320"/>
          </a:xfrm>
          <a:custGeom>
            <a:avLst/>
            <a:gdLst/>
            <a:ahLst/>
            <a:rect l="0" t="0" r="r" b="b"/>
            <a:pathLst>
              <a:path w="17710" h="5037">
                <a:moveTo>
                  <a:pt x="0" y="0"/>
                </a:moveTo>
                <a:lnTo>
                  <a:pt x="17710" y="0"/>
                </a:lnTo>
                <a:lnTo>
                  <a:pt x="17710" y="5037"/>
                </a:lnTo>
                <a:lnTo>
                  <a:pt x="0" y="503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03360" y="1622520"/>
            <a:ext cx="5705640" cy="1825560"/>
            <a:chOff x="1503360" y="1622520"/>
            <a:chExt cx="5705640" cy="1825560"/>
          </a:xfrm>
        </p:grpSpPr>
        <p:sp>
          <p:nvSpPr>
            <p:cNvPr id="135" name=""/>
            <p:cNvSpPr/>
            <p:nvPr/>
          </p:nvSpPr>
          <p:spPr>
            <a:xfrm>
              <a:off x="15033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2884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3992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513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7504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8648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975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0900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 txBox="1"/>
          <p:nvPr/>
        </p:nvSpPr>
        <p:spPr>
          <a:xfrm>
            <a:off x="2414520" y="25588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1840" y="2557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80200" y="25588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64160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62140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02792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14204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5312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72300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4160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76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77368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39432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25652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6868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9584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91192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52140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35804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6528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77020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79736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8788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62292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22400" y="444600"/>
            <a:ext cx="7061040" cy="1001880"/>
          </a:xfrm>
          <a:prstGeom prst="rect">
            <a:avLst/>
          </a:prstGeom>
          <a:solidFill>
            <a:srgbClr val="9900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44680" y="2979720"/>
            <a:ext cx="4037400" cy="341640"/>
          </a:xfrm>
          <a:custGeom>
            <a:avLst/>
            <a:gdLst/>
            <a:ahLst/>
            <a:rect l="0" t="0" r="r" b="b"/>
            <a:pathLst>
              <a:path w="11215" h="949">
                <a:moveTo>
                  <a:pt x="0" y="0"/>
                </a:moveTo>
                <a:lnTo>
                  <a:pt x="11215" y="0"/>
                </a:lnTo>
                <a:lnTo>
                  <a:pt x="11215" y="949"/>
                </a:lnTo>
                <a:lnTo>
                  <a:pt x="0" y="949"/>
                </a:lnTo>
                <a:lnTo>
                  <a:pt x="0" y="0"/>
                </a:lnTo>
                <a:close/>
              </a:path>
            </a:pathLst>
          </a:custGeom>
          <a:solidFill>
            <a:srgbClr val="6600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695760" y="2925720"/>
            <a:ext cx="1405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378080" y="3498840"/>
            <a:ext cx="638784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159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2884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992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13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7504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648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975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0900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38120" y="36082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07324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88432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69576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1800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2908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4052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95160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645000" y="4040280"/>
            <a:ext cx="15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ime (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22400" y="4575240"/>
            <a:ext cx="7061040" cy="18129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325520" y="463536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557360" y="4635360"/>
            <a:ext cx="2725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map reading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325520" y="495288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44760" y="4952880"/>
            <a:ext cx="328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Peripheral vision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25520" y="5268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44760" y="5268960"/>
            <a:ext cx="343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Stroop color-word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325520" y="55864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39720" y="5586480"/>
            <a:ext cx="3063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- blood lactate 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325520" y="590220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6376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387440" y="17985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65280" y="5902200"/>
            <a:ext cx="331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- oxygen uptake 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181160" y="552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tocol for study of cognitive function in orient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312920" y="164628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raph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512720"/>
            <a:ext cx="7772400" cy="52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graphs in preference to t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the right kind of graph for the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bel individual lines or bars rather than use a k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a bare minimum of ticks and numbers on ax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LARGE symbols on plotted poin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ary symbol shape for the colorblind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049400" y="5846760"/>
            <a:ext cx="6777000" cy="628560"/>
            <a:chOff x="1049400" y="5846760"/>
            <a:chExt cx="6777000" cy="628560"/>
          </a:xfrm>
        </p:grpSpPr>
        <p:sp>
          <p:nvSpPr>
            <p:cNvPr id="208" name=""/>
            <p:cNvSpPr txBox="1"/>
            <p:nvPr/>
          </p:nvSpPr>
          <p:spPr>
            <a:xfrm>
              <a:off x="1049400" y="5846760"/>
              <a:ext cx="5460840" cy="62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  <a:spcBef>
                  <a:spcPts val="479"/>
                </a:spcBef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This:                            Not this: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89160" y="6067440"/>
              <a:ext cx="208080" cy="21096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ff66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41480" y="6060960"/>
              <a:ext cx="216360" cy="217800"/>
            </a:xfrm>
            <a:custGeom>
              <a:avLst/>
              <a:gdLst/>
              <a:ahLst/>
              <a:rect l="0" t="0" r="r" b="b"/>
              <a:pathLst>
                <a:path w="601" h="605">
                  <a:moveTo>
                    <a:pt x="0" y="605"/>
                  </a:moveTo>
                  <a:lnTo>
                    <a:pt x="601" y="605"/>
                  </a:lnTo>
                  <a:lnTo>
                    <a:pt x="300" y="0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10000" y="6067440"/>
              <a:ext cx="209520" cy="210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ff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49520" y="6067440"/>
              <a:ext cx="209520" cy="210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1840" y="6060960"/>
              <a:ext cx="216360" cy="217800"/>
            </a:xfrm>
            <a:custGeom>
              <a:avLst/>
              <a:gdLst/>
              <a:ahLst/>
              <a:rect l="0" t="0" r="r" b="b"/>
              <a:pathLst>
                <a:path w="601" h="605">
                  <a:moveTo>
                    <a:pt x="0" y="605"/>
                  </a:moveTo>
                  <a:lnTo>
                    <a:pt x="601" y="605"/>
                  </a:lnTo>
                  <a:lnTo>
                    <a:pt x="300" y="0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54520" y="6067440"/>
              <a:ext cx="209520" cy="2109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ff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81880" y="6141960"/>
              <a:ext cx="109440" cy="10944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ff66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29360" y="6141960"/>
              <a:ext cx="109440" cy="1094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75400" y="6141960"/>
              <a:ext cx="111240" cy="109440"/>
            </a:xfrm>
            <a:prstGeom prst="ellipse">
              <a:avLst/>
            </a:prstGeom>
            <a:solidFill>
              <a:srgbClr val="00ff99"/>
            </a:solidFill>
            <a:ln w="12600">
              <a:solidFill>
                <a:srgbClr val="00ff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21640" y="6141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69120" y="6141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16960" y="6141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ff99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44520" y="1371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533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05120"/>
            <a:ext cx="7772400" cy="46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iving a good talk is an essential skill for researchers and instruc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You want feedback on your data or ideas, so put them across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ferences are fun - if you give your talk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t’s all a game.  Learn the rules and you’ll enjoy it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668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304920"/>
            <a:ext cx="7543800" cy="6324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04920"/>
            <a:ext cx="754380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8080" y="41904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ffect of drug or placebo on maximum oxygen uptake during 16 weeks of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4680" y="39852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49240" y="6184800"/>
            <a:ext cx="281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ata are means and S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4160" y="1760400"/>
            <a:ext cx="2876760" cy="3586680"/>
          </a:xfrm>
          <a:custGeom>
            <a:avLst/>
            <a:gdLst/>
            <a:ahLst/>
            <a:rect l="0" t="0" r="r" b="b"/>
            <a:pathLst>
              <a:path w="7991" h="9963">
                <a:moveTo>
                  <a:pt x="0" y="0"/>
                </a:moveTo>
                <a:lnTo>
                  <a:pt x="7991" y="0"/>
                </a:lnTo>
                <a:lnTo>
                  <a:pt x="7991" y="9963"/>
                </a:lnTo>
                <a:lnTo>
                  <a:pt x="0" y="9963"/>
                </a:lnTo>
                <a:lnTo>
                  <a:pt x="0" y="0"/>
                </a:lnTo>
                <a:close/>
              </a:path>
            </a:pathLst>
          </a:custGeom>
          <a:solidFill>
            <a:srgbClr val="51006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27440" y="1760400"/>
            <a:ext cx="951120" cy="3586680"/>
          </a:xfrm>
          <a:custGeom>
            <a:avLst/>
            <a:gdLst/>
            <a:ahLst/>
            <a:rect l="0" t="0" r="r" b="b"/>
            <a:pathLst>
              <a:path w="2642" h="9963">
                <a:moveTo>
                  <a:pt x="0" y="0"/>
                </a:moveTo>
                <a:lnTo>
                  <a:pt x="2642" y="0"/>
                </a:lnTo>
                <a:lnTo>
                  <a:pt x="2642" y="9963"/>
                </a:lnTo>
                <a:lnTo>
                  <a:pt x="0" y="9963"/>
                </a:lnTo>
                <a:lnTo>
                  <a:pt x="0" y="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41840" y="4259160"/>
            <a:ext cx="3812040" cy="433800"/>
          </a:xfrm>
          <a:custGeom>
            <a:avLst/>
            <a:gdLst/>
            <a:ahLst/>
            <a:rect l="0" t="0" r="r" b="b"/>
            <a:pathLst>
              <a:path fill="none" w="10589" h="1205">
                <a:moveTo>
                  <a:pt x="0" y="1205"/>
                </a:moveTo>
                <a:lnTo>
                  <a:pt x="2597" y="803"/>
                </a:lnTo>
                <a:lnTo>
                  <a:pt x="5275" y="834"/>
                </a:lnTo>
                <a:lnTo>
                  <a:pt x="7948" y="874"/>
                </a:lnTo>
                <a:lnTo>
                  <a:pt x="10589" y="0"/>
                </a:lnTo>
              </a:path>
            </a:pathLst>
          </a:custGeom>
          <a:ln w="12600">
            <a:solidFill>
              <a:srgbClr val="0088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41840" y="2467080"/>
            <a:ext cx="3799080" cy="2184840"/>
          </a:xfrm>
          <a:custGeom>
            <a:avLst/>
            <a:gdLst/>
            <a:ahLst/>
            <a:rect l="0" t="0" r="r" b="b"/>
            <a:pathLst>
              <a:path fill="none" w="10553" h="6069">
                <a:moveTo>
                  <a:pt x="0" y="5306"/>
                </a:moveTo>
                <a:lnTo>
                  <a:pt x="2632" y="6069"/>
                </a:lnTo>
                <a:lnTo>
                  <a:pt x="5269" y="3960"/>
                </a:lnTo>
                <a:lnTo>
                  <a:pt x="7947" y="0"/>
                </a:lnTo>
                <a:lnTo>
                  <a:pt x="10553" y="1490"/>
                </a:lnTo>
              </a:path>
            </a:pathLst>
          </a:custGeom>
          <a:ln w="12600">
            <a:solidFill>
              <a:srgbClr val="dd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14840" y="5530680"/>
            <a:ext cx="3825720" cy="128880"/>
            <a:chOff x="3714840" y="5530680"/>
            <a:chExt cx="3825720" cy="128880"/>
          </a:xfrm>
        </p:grpSpPr>
        <p:sp>
          <p:nvSpPr>
            <p:cNvPr id="234" name=""/>
            <p:cNvSpPr/>
            <p:nvPr/>
          </p:nvSpPr>
          <p:spPr>
            <a:xfrm>
              <a:off x="3714840" y="5530680"/>
              <a:ext cx="38131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056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7864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2932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6416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1484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5457960" y="258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927760" y="4675320"/>
            <a:ext cx="133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99"/>
                </a:solidFill>
                <a:latin typeface="Arial"/>
                <a:ea typeface="Arial"/>
              </a:rPr>
              <a:t>plac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386400" y="3500280"/>
            <a:ext cx="37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9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342200" y="3481560"/>
            <a:ext cx="37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9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679920" y="3917880"/>
            <a:ext cx="3900240" cy="1309680"/>
            <a:chOff x="3679920" y="3917880"/>
            <a:chExt cx="3900240" cy="1309680"/>
          </a:xfrm>
        </p:grpSpPr>
        <p:grpSp>
          <p:nvGrpSpPr>
            <p:cNvPr id="245" name=""/>
            <p:cNvGrpSpPr/>
            <p:nvPr/>
          </p:nvGrpSpPr>
          <p:grpSpPr>
            <a:xfrm>
              <a:off x="3679920" y="4730760"/>
              <a:ext cx="117360" cy="496800"/>
              <a:chOff x="3679920" y="4730760"/>
              <a:chExt cx="117360" cy="496800"/>
            </a:xfrm>
          </p:grpSpPr>
          <p:sp>
            <p:nvSpPr>
              <p:cNvPr id="246" name=""/>
              <p:cNvSpPr/>
              <p:nvPr/>
            </p:nvSpPr>
            <p:spPr>
              <a:xfrm>
                <a:off x="3745080" y="4730760"/>
                <a:ext cx="0" cy="48420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679920" y="522756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3741840" y="4259160"/>
              <a:ext cx="3812040" cy="433800"/>
            </a:xfrm>
            <a:custGeom>
              <a:avLst/>
              <a:gdLst/>
              <a:ahLst/>
              <a:rect l="0" t="0" r="r" b="b"/>
              <a:pathLst>
                <a:path fill="none" w="10589" h="1205">
                  <a:moveTo>
                    <a:pt x="0" y="1205"/>
                  </a:moveTo>
                  <a:lnTo>
                    <a:pt x="2597" y="803"/>
                  </a:lnTo>
                  <a:lnTo>
                    <a:pt x="5275" y="834"/>
                  </a:lnTo>
                  <a:lnTo>
                    <a:pt x="7948" y="874"/>
                  </a:lnTo>
                  <a:lnTo>
                    <a:pt x="10589" y="0"/>
                  </a:lnTo>
                </a:path>
              </a:pathLst>
            </a:custGeom>
            <a:ln w="25560">
              <a:solidFill>
                <a:srgbClr val="00ff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6524640" y="3917880"/>
              <a:ext cx="119160" cy="641520"/>
              <a:chOff x="6524640" y="3917880"/>
              <a:chExt cx="119160" cy="641520"/>
            </a:xfrm>
          </p:grpSpPr>
          <p:sp>
            <p:nvSpPr>
              <p:cNvPr id="250" name=""/>
              <p:cNvSpPr/>
              <p:nvPr/>
            </p:nvSpPr>
            <p:spPr>
              <a:xfrm>
                <a:off x="6589800" y="3917880"/>
                <a:ext cx="0" cy="64152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524640" y="3917880"/>
                <a:ext cx="1191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599000" y="4651200"/>
              <a:ext cx="117360" cy="498600"/>
              <a:chOff x="4599000" y="4651200"/>
              <a:chExt cx="117360" cy="498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664160" y="4651200"/>
                <a:ext cx="0" cy="48420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4599000" y="514980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564160" y="4559400"/>
              <a:ext cx="115920" cy="498240"/>
              <a:chOff x="5564160" y="4559400"/>
              <a:chExt cx="115920" cy="49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629320" y="4559400"/>
                <a:ext cx="0" cy="48564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564160" y="5057640"/>
                <a:ext cx="11592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462800" y="4245120"/>
              <a:ext cx="117360" cy="500040"/>
              <a:chOff x="7462800" y="4245120"/>
              <a:chExt cx="117360" cy="500040"/>
            </a:xfrm>
          </p:grpSpPr>
          <p:sp>
            <p:nvSpPr>
              <p:cNvPr id="259" name=""/>
              <p:cNvSpPr/>
              <p:nvPr/>
            </p:nvSpPr>
            <p:spPr>
              <a:xfrm>
                <a:off x="7527960" y="4245120"/>
                <a:ext cx="0" cy="48564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7462800" y="474516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3679920" y="3722760"/>
            <a:ext cx="117360" cy="642960"/>
            <a:chOff x="3679920" y="3722760"/>
            <a:chExt cx="117360" cy="642960"/>
          </a:xfrm>
        </p:grpSpPr>
        <p:sp>
          <p:nvSpPr>
            <p:cNvPr id="262" name=""/>
            <p:cNvSpPr/>
            <p:nvPr/>
          </p:nvSpPr>
          <p:spPr>
            <a:xfrm>
              <a:off x="3745080" y="3722760"/>
              <a:ext cx="0" cy="6429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79920" y="372276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741840" y="2467080"/>
            <a:ext cx="3799080" cy="2184840"/>
          </a:xfrm>
          <a:custGeom>
            <a:avLst/>
            <a:gdLst/>
            <a:ahLst/>
            <a:rect l="0" t="0" r="r" b="b"/>
            <a:pathLst>
              <a:path fill="none" w="10553" h="6069">
                <a:moveTo>
                  <a:pt x="0" y="5306"/>
                </a:moveTo>
                <a:lnTo>
                  <a:pt x="2632" y="6069"/>
                </a:lnTo>
                <a:lnTo>
                  <a:pt x="5269" y="3960"/>
                </a:lnTo>
                <a:lnTo>
                  <a:pt x="7947" y="0"/>
                </a:lnTo>
                <a:lnTo>
                  <a:pt x="10553" y="1490"/>
                </a:lnTo>
              </a:path>
            </a:pathLst>
          </a:custGeom>
          <a:ln w="25560">
            <a:solidFill>
              <a:srgbClr val="ff6699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513480" y="2467080"/>
            <a:ext cx="117360" cy="1035000"/>
            <a:chOff x="6513480" y="2467080"/>
            <a:chExt cx="117360" cy="1035000"/>
          </a:xfrm>
        </p:grpSpPr>
        <p:sp>
          <p:nvSpPr>
            <p:cNvPr id="266" name=""/>
            <p:cNvSpPr/>
            <p:nvPr/>
          </p:nvSpPr>
          <p:spPr>
            <a:xfrm>
              <a:off x="6578640" y="2467080"/>
              <a:ext cx="0" cy="10191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513480" y="350208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599000" y="3892680"/>
            <a:ext cx="117360" cy="641160"/>
            <a:chOff x="4599000" y="3892680"/>
            <a:chExt cx="117360" cy="641160"/>
          </a:xfrm>
        </p:grpSpPr>
        <p:sp>
          <p:nvSpPr>
            <p:cNvPr id="269" name=""/>
            <p:cNvSpPr/>
            <p:nvPr/>
          </p:nvSpPr>
          <p:spPr>
            <a:xfrm>
              <a:off x="4664160" y="3892680"/>
              <a:ext cx="0" cy="6411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99000" y="389268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462800" y="2270160"/>
            <a:ext cx="117360" cy="681120"/>
            <a:chOff x="7462800" y="2270160"/>
            <a:chExt cx="117360" cy="681120"/>
          </a:xfrm>
        </p:grpSpPr>
        <p:sp>
          <p:nvSpPr>
            <p:cNvPr id="272" name=""/>
            <p:cNvSpPr/>
            <p:nvPr/>
          </p:nvSpPr>
          <p:spPr>
            <a:xfrm>
              <a:off x="7527960" y="2270160"/>
              <a:ext cx="0" cy="68112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62800" y="227016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3749760" y="1758960"/>
            <a:ext cx="946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016600" y="1755720"/>
            <a:ext cx="23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rug or plac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298680" y="1760400"/>
            <a:ext cx="130320" cy="3586320"/>
            <a:chOff x="3298680" y="1760400"/>
            <a:chExt cx="130320" cy="3586320"/>
          </a:xfrm>
        </p:grpSpPr>
        <p:sp>
          <p:nvSpPr>
            <p:cNvPr id="277" name=""/>
            <p:cNvSpPr/>
            <p:nvPr/>
          </p:nvSpPr>
          <p:spPr>
            <a:xfrm flipH="1">
              <a:off x="3298680" y="534672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298680" y="444168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298680" y="355284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298680" y="264960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298680" y="176040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9000" y="1760400"/>
              <a:ext cx="0" cy="3586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"/>
          <p:cNvSpPr txBox="1"/>
          <p:nvPr/>
        </p:nvSpPr>
        <p:spPr>
          <a:xfrm>
            <a:off x="2725560" y="157176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725560" y="33638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725560" y="515160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54312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47372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44356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296040" y="56926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246800" y="56926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0840" y="606420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ime (wee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17680" y="2760840"/>
            <a:ext cx="2649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ax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ml.mi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.kg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48240" y="460044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445788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33920" y="444816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96200" y="445788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29680" y="415296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573880" y="3160800"/>
            <a:ext cx="115560" cy="681120"/>
            <a:chOff x="5573880" y="3160800"/>
            <a:chExt cx="115560" cy="681120"/>
          </a:xfrm>
        </p:grpSpPr>
        <p:sp>
          <p:nvSpPr>
            <p:cNvPr id="299" name=""/>
            <p:cNvSpPr/>
            <p:nvPr/>
          </p:nvSpPr>
          <p:spPr>
            <a:xfrm>
              <a:off x="5573880" y="3160800"/>
              <a:ext cx="1155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3160800"/>
              <a:ext cx="0" cy="68112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637080" y="2347920"/>
            <a:ext cx="3993840" cy="2409840"/>
            <a:chOff x="3637080" y="2347920"/>
            <a:chExt cx="3993840" cy="2409840"/>
          </a:xfrm>
        </p:grpSpPr>
        <p:sp>
          <p:nvSpPr>
            <p:cNvPr id="302" name=""/>
            <p:cNvSpPr/>
            <p:nvPr/>
          </p:nvSpPr>
          <p:spPr>
            <a:xfrm>
              <a:off x="4573440" y="4548240"/>
              <a:ext cx="195120" cy="20952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37160" y="3787920"/>
              <a:ext cx="19368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35800" y="2909880"/>
              <a:ext cx="19512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37080" y="4272120"/>
              <a:ext cx="19368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86480" y="2347920"/>
              <a:ext cx="193680" cy="20952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457200"/>
            <a:ext cx="7391520" cy="6019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8080" y="457200"/>
            <a:ext cx="739152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30240" y="533520"/>
            <a:ext cx="7223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ction time of novice and elite athletes in three phases of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773520" y="5692680"/>
            <a:ext cx="262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action time (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746440" y="5291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108840" y="2631960"/>
            <a:ext cx="960120" cy="157320"/>
            <a:chOff x="6108840" y="2631960"/>
            <a:chExt cx="960120" cy="157320"/>
          </a:xfrm>
        </p:grpSpPr>
        <p:sp>
          <p:nvSpPr>
            <p:cNvPr id="315" name=""/>
            <p:cNvSpPr/>
            <p:nvPr/>
          </p:nvSpPr>
          <p:spPr>
            <a:xfrm>
              <a:off x="6108840" y="2709720"/>
              <a:ext cx="960120" cy="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68960" y="2631960"/>
              <a:ext cx="0" cy="15732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982960" y="2543040"/>
            <a:ext cx="3137040" cy="345960"/>
          </a:xfrm>
          <a:prstGeom prst="rect">
            <a:avLst/>
          </a:pr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724040" y="251316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uild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377040" y="3060720"/>
            <a:ext cx="1049400" cy="157320"/>
            <a:chOff x="6377040" y="3060720"/>
            <a:chExt cx="1049400" cy="157320"/>
          </a:xfrm>
        </p:grpSpPr>
        <p:sp>
          <p:nvSpPr>
            <p:cNvPr id="320" name=""/>
            <p:cNvSpPr/>
            <p:nvPr/>
          </p:nvSpPr>
          <p:spPr>
            <a:xfrm>
              <a:off x="6377040" y="3139920"/>
              <a:ext cx="1049400" cy="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6440" y="3060720"/>
              <a:ext cx="0" cy="15732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982960" y="2971800"/>
            <a:ext cx="3416400" cy="347760"/>
          </a:xfrm>
          <a:prstGeom prst="rect">
            <a:avLst/>
          </a:prstGeom>
          <a:solidFill>
            <a:srgbClr val="f95ab7"/>
          </a:solidFill>
          <a:ln w="12600">
            <a:solidFill>
              <a:srgbClr val="f95ab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095560" y="2952720"/>
            <a:ext cx="8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668840" y="4824360"/>
            <a:ext cx="569880" cy="157320"/>
            <a:chOff x="4668840" y="4824360"/>
            <a:chExt cx="569880" cy="157320"/>
          </a:xfrm>
        </p:grpSpPr>
        <p:sp>
          <p:nvSpPr>
            <p:cNvPr id="325" name=""/>
            <p:cNvSpPr/>
            <p:nvPr/>
          </p:nvSpPr>
          <p:spPr>
            <a:xfrm>
              <a:off x="4668840" y="4903920"/>
              <a:ext cx="569880" cy="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38720" y="4824360"/>
              <a:ext cx="0" cy="15732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 txBox="1"/>
          <p:nvPr/>
        </p:nvSpPr>
        <p:spPr>
          <a:xfrm>
            <a:off x="2095560" y="4694400"/>
            <a:ext cx="8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82960" y="4724280"/>
            <a:ext cx="1708200" cy="345960"/>
          </a:xfrm>
          <a:prstGeom prst="rect">
            <a:avLst/>
          </a:prstGeom>
          <a:solidFill>
            <a:srgbClr val="f95ab7"/>
          </a:solidFill>
          <a:ln w="12600">
            <a:solidFill>
              <a:srgbClr val="f95ab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729400" y="2201760"/>
            <a:ext cx="971280" cy="157320"/>
            <a:chOff x="5729400" y="2201760"/>
            <a:chExt cx="971280" cy="157320"/>
          </a:xfrm>
        </p:grpSpPr>
        <p:sp>
          <p:nvSpPr>
            <p:cNvPr id="330" name=""/>
            <p:cNvSpPr/>
            <p:nvPr/>
          </p:nvSpPr>
          <p:spPr>
            <a:xfrm>
              <a:off x="5729400" y="2281320"/>
              <a:ext cx="971280" cy="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0680" y="2201760"/>
              <a:ext cx="0" cy="1573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1276200" y="2101680"/>
            <a:ext cx="170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e-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82960" y="2112840"/>
            <a:ext cx="2813040" cy="34596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876840" y="3946680"/>
            <a:ext cx="568080" cy="156960"/>
            <a:chOff x="3876840" y="3946680"/>
            <a:chExt cx="568080" cy="156960"/>
          </a:xfrm>
        </p:grpSpPr>
        <p:sp>
          <p:nvSpPr>
            <p:cNvPr id="335" name=""/>
            <p:cNvSpPr/>
            <p:nvPr/>
          </p:nvSpPr>
          <p:spPr>
            <a:xfrm>
              <a:off x="3876840" y="4025880"/>
              <a:ext cx="568080" cy="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44920" y="3946680"/>
              <a:ext cx="0" cy="15696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"/>
          <p:cNvSpPr txBox="1"/>
          <p:nvPr/>
        </p:nvSpPr>
        <p:spPr>
          <a:xfrm>
            <a:off x="1276200" y="3816360"/>
            <a:ext cx="170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e-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2960" y="3857760"/>
            <a:ext cx="893880" cy="34596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6756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2940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2436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8764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760840" y="5186520"/>
            <a:ext cx="454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58308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4989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4133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3295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465800" y="3797280"/>
            <a:ext cx="3920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2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527280" y="3370320"/>
            <a:ext cx="318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†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968560" y="1736640"/>
            <a:ext cx="9558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novi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968560" y="3481560"/>
            <a:ext cx="673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eli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333520" y="404640"/>
            <a:ext cx="27612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836960" y="4376880"/>
            <a:ext cx="679680" cy="156960"/>
            <a:chOff x="4836960" y="4376880"/>
            <a:chExt cx="679680" cy="156960"/>
          </a:xfrm>
        </p:grpSpPr>
        <p:sp>
          <p:nvSpPr>
            <p:cNvPr id="355" name=""/>
            <p:cNvSpPr/>
            <p:nvPr/>
          </p:nvSpPr>
          <p:spPr>
            <a:xfrm>
              <a:off x="4836960" y="4454640"/>
              <a:ext cx="679680" cy="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16640" y="4376880"/>
              <a:ext cx="0" cy="15696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"/>
          <p:cNvSpPr txBox="1"/>
          <p:nvPr/>
        </p:nvSpPr>
        <p:spPr>
          <a:xfrm>
            <a:off x="1724040" y="424656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uild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82960" y="4287960"/>
            <a:ext cx="1865160" cy="345960"/>
          </a:xfrm>
          <a:prstGeom prst="rect">
            <a:avLst/>
          </a:pr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39960" y="6054840"/>
            <a:ext cx="281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ata are means and S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For the Aud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2076480"/>
            <a:ext cx="777240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t there o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snigger at foolish spe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annoy your neighbo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your questions pithy, and don’t show off TOO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sk a simple question:  the answer will help other people underst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4520" y="18097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85800" y="3808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 -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At the St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5800" y="1992240"/>
            <a:ext cx="7772400" cy="47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out the hardware beforeh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eet the speakers and arrange a signal to let them know when time is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roduce yourself and the sess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ame the speaker and read the ti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ulogize the big sho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ay when questions can be as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x any problems during the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4520" y="18288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3264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5800" y="3967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 -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At 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2046240"/>
            <a:ext cx="7772400" cy="52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arn speakers when time is nearly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ead the applau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vite questions if time permits, or ask people to meet the speaker afterwar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ave a question ready in case no-one asks 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nish the session with thanks to the speakers and lead more appla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4520" y="1866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In Conclusion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obsessional!  Give it your best sh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creative - break the rules some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ll it help get the message acro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Yes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Drop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19605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612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opics in This Presen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0808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Au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5440" y="17780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8000" y="189000"/>
            <a:ext cx="83692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99cc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8880" y="1496880"/>
            <a:ext cx="82580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aint a big picture first, then zoom in on your little pix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mpress by </a:t>
            </a: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in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ming, not </a:t>
            </a: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per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You know more about the topic than most of the audience.  Get down to their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jargon, be colloquial, but be prec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short relevant joke is great.  Anything else is tedi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ver apolog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4520" y="13017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[Down Under joke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9280" y="228600"/>
            <a:ext cx="768996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708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Prepa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2232000"/>
            <a:ext cx="777240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hears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that your slides are in the right order and orien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out the controls for the lights and proje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ap the microph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the poi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520" y="20034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790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222264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lax… Who will care in 100 years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read out the title if the chair 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trivial opening remarks.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t on with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read the talk verbatim!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d lib it from notes of the main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4520" y="19940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681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3520" y="2076480"/>
            <a:ext cx="811548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peak slowly, loudly, clear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Keep your mouth near the microph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Keep facing the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eye contact with as many people as pos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verbal or postural mannerisms that distract or anno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4520" y="1866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49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57280" y="1833480"/>
            <a:ext cx="807732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long quotes on a slide, and don’t read them out verbat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oint to detail on a slide as you explain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Explain the axe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of a 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go ove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finish with “any question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nish with “thank you.”  Then flick up a black slide, especially with Power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4520" y="16574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ll G Hopkins</dc:creator>
  <dc:description/>
  <dc:language>en-US</dc:language>
  <cp:lastModifiedBy>Will G Hopkins</cp:lastModifiedBy>
  <cp:revision>0</cp:revision>
  <dc:subject>oral presentation skills</dc:subject>
  <dc:title>How to Give Talks</dc:title>
</cp:coreProperties>
</file>