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-3240"/>
            <a:ext cx="6864480" cy="915048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93204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173160" y="6411960"/>
            <a:ext cx="7891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wi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62864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32560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02256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5920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5616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5312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950080" y="617076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y/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628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6208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5868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256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324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5904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5564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952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7020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5600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52600" y="66452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401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2740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243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308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7680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6224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5920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972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737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5920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561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668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67072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579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312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7364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36732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5456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51520" y="66452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70600" y="6348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23920" y="5972040"/>
            <a:ext cx="24271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inuous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45040" y="5972040"/>
            <a:ext cx="22017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terval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6840" y="6854760"/>
            <a:ext cx="5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yc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6880" y="7300800"/>
            <a:ext cx="6350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8096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6676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6372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724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7792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6372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6068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420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77488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6068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57280" y="71010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116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448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3208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290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148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6728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6388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784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642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08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136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7540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6264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25780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7832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7236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5960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56200" y="71010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75280" y="680400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8600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7144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6840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192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8296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6840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6536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5888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7956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6536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62320" y="755640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5584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4495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76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337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280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616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07196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6856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944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831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689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55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8008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46732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26248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8336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7704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6428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61240" y="755640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9960" y="725976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87360" y="6330960"/>
            <a:ext cx="5245200" cy="1206360"/>
            <a:chOff x="1287360" y="6330960"/>
            <a:chExt cx="5245200" cy="1206360"/>
          </a:xfrm>
        </p:grpSpPr>
        <p:sp>
          <p:nvSpPr>
            <p:cNvPr id="147" name=""/>
            <p:cNvSpPr txBox="1"/>
            <p:nvPr/>
          </p:nvSpPr>
          <p:spPr>
            <a:xfrm>
              <a:off x="128736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98432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8128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37824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21488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91184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60880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305400" y="633096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29240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98900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268596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38292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21956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91652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561348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6310440" y="67867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29708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99404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69064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38760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22424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92120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61816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315120" y="724212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953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793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232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7632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892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732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862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02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068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198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38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64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080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340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977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71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440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9700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813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939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779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49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275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15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45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85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148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548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1844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0244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50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016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60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986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830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56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96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322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62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132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616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016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2312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0712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9840" y="552600"/>
            <a:ext cx="64231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been a round of major competitions lately (e.g. African and South African Championships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 to find out about your training in the 4 weeks leading up to the first competi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8680" y="204840"/>
            <a:ext cx="43956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94320" y="5270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05480" y="2602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184800" y="52704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178680" y="46080"/>
            <a:ext cx="47952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ath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8840" y="1065240"/>
            <a:ext cx="44460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08360" y="13701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26000" y="1120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05320" y="13701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9840" y="1477800"/>
            <a:ext cx="54673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let’s examine your training in the month before that first competi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id anything prevent you from training the way you would normally train (e.g. injury, flu)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9840" y="990720"/>
            <a:ext cx="33307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5240" indent="-16524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ow many weeks before the the S.A. Championships was the first of these major competitions for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54240" y="2139840"/>
            <a:ext cx="18986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ES, what was the proble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9840" y="2612880"/>
            <a:ext cx="63547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5240" indent="-16524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own the training hours per week you were doing in the first week of that month (that is, 28-21 days before the first competition). Count warm-ups and cool-downs as easy sessions. For interval training, keep the work periods separate from the recovery (easy/rest) periods. Convert minutes to hours as follows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in = 0.2,   20 min = 0.3,   30 min = 0.5,   40 min = 0.7,   50 min = 0.8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88920" y="1919160"/>
            <a:ext cx="17460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8840" y="1874880"/>
            <a:ext cx="77328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:    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88920" y="2184480"/>
            <a:ext cx="17460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6200" y="2139840"/>
            <a:ext cx="3859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254240" y="2340000"/>
            <a:ext cx="54957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about the training you would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done if you didn’t have this probl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11480" y="2084400"/>
            <a:ext cx="352260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9840" y="7758000"/>
            <a:ext cx="67723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some personal detai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79995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9320" y="83041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74840" y="83041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7360" y="8085240"/>
            <a:ext cx="4017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6836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526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492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9760" y="8610480"/>
            <a:ext cx="11383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500-m sw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0036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8612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12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97040" y="8648640"/>
            <a:ext cx="2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42960" y="8456760"/>
            <a:ext cx="52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9892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70320" y="8610480"/>
            <a:ext cx="11383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40-km r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056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27600" y="8648640"/>
            <a:ext cx="2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73520" y="8456760"/>
            <a:ext cx="52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8944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0840" y="8626320"/>
            <a:ext cx="11383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-km r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21440" y="863136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08760" y="8648640"/>
            <a:ext cx="2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864400" y="8456760"/>
            <a:ext cx="52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99000" y="8005680"/>
            <a:ext cx="44460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789440" y="83041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00440" y="83041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753000" y="7924680"/>
            <a:ext cx="87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years as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mpetitive</a:t>
            </a:r>
            <a:br>
              <a:rPr sz="1800"/>
            </a:b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i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th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828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812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148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1148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87376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67072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30540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02360" y="893304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0280" y="8002440"/>
            <a:ext cx="446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264280" y="7924680"/>
            <a:ext cx="87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years as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mpetitiv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th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10280" y="8305920"/>
            <a:ext cx="28116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300720" y="8305920"/>
            <a:ext cx="28116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9840" y="5219640"/>
            <a:ext cx="31478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is diagram shows the 4 weeks before the first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. Circle the hardest training wee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3560" y="54259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06880" y="5288040"/>
            <a:ext cx="26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554280" y="5288040"/>
            <a:ext cx="26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03840" y="5288040"/>
            <a:ext cx="26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51240" y="5288040"/>
            <a:ext cx="26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9840" y="5715000"/>
            <a:ext cx="64231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at training did you do in that week? (Skip this question if you circled Week 4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3640" y="1066680"/>
            <a:ext cx="441360" cy="336600"/>
          </a:xfrm>
          <a:prstGeom prst="rect">
            <a:avLst/>
          </a:prstGeom>
          <a:solidFill>
            <a:srgbClr val="eaeaea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70760" y="13701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92880" y="112248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378480" y="13701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48360" y="793800"/>
            <a:ext cx="685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  <a:ea typeface="Arial"/>
              </a:rPr>
              <a:t>leave blank</a:t>
            </a:r>
            <a:br>
              <a:rPr sz="700"/>
            </a:br>
            <a:r>
              <a:rPr b="1" lang="en-US" sz="700" spc="-1" strike="noStrike">
                <a:solidFill>
                  <a:srgbClr val="808080"/>
                </a:solidFill>
                <a:latin typeface="Arial"/>
                <a:ea typeface="Arial"/>
              </a:rPr>
              <a:t>Q2  Q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320" y="112680"/>
            <a:ext cx="60642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YOUR RECENT TRIATHLON 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9920" y="466560"/>
            <a:ext cx="583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76400" y="8045280"/>
            <a:ext cx="5716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k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0494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8352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318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25760" y="8004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6532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67080" y="8045280"/>
            <a:ext cx="5493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eigh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c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4210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2068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03480" y="83008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97360" y="800424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3204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3160" y="3770280"/>
            <a:ext cx="7891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wi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62864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32560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2256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5920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5616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5312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50080" y="3529080"/>
            <a:ext cx="696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y/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37628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6208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5868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5256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7324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85904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5564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4952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77020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5600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352600" y="400356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648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401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2740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243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308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7680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06224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5920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7972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737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75920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561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668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67072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4579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25312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7364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36732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15456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951520" y="400356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70600" y="37069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23920" y="3330720"/>
            <a:ext cx="24271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inuous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3330720"/>
            <a:ext cx="22017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terval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66840" y="4213080"/>
            <a:ext cx="5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yc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6880" y="4659480"/>
            <a:ext cx="6350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8096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6676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6372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5724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07792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86372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66068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5420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77488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6068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357280" y="445932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5116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4448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23208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290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148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6728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6388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8476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784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7642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08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8136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67540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46264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25780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7832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37236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5960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956200" y="445932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75280" y="416232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8600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7144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6840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6192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08296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86840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66536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5888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56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6536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362320" y="4915080"/>
            <a:ext cx="2318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495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23676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337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280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28616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07196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6856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944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9831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7689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55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8640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8008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46732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6248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8336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37704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6428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961240" y="4915080"/>
            <a:ext cx="28728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4618080"/>
            <a:ext cx="662040" cy="3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87360" y="3689280"/>
            <a:ext cx="5245200" cy="1206360"/>
            <a:chOff x="1287360" y="3689280"/>
            <a:chExt cx="5245200" cy="1206360"/>
          </a:xfrm>
        </p:grpSpPr>
        <p:sp>
          <p:nvSpPr>
            <p:cNvPr id="414" name=""/>
            <p:cNvSpPr txBox="1"/>
            <p:nvPr/>
          </p:nvSpPr>
          <p:spPr>
            <a:xfrm>
              <a:off x="128736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98432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68128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37824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421488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91184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60880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6305400" y="368928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29240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8900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68596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38292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21956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91652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61348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310440" y="41450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129708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199404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69064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338760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22424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92120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561816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6315120" y="4600440"/>
              <a:ext cx="21744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3953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793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9232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7632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892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732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862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02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228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068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198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64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0080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1340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77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971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8440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9700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813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939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779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909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275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1115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45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85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2148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0548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41844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0244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050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90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016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860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986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30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4956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96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322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162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132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2616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1016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2312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0712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962000" y="7981920"/>
            <a:ext cx="217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5160" y="80550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955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2716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257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577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91660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4824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26160" y="806148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37440" y="805824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525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401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241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partment of Physiology</dc:creator>
  <dc:description/>
  <dc:language>en-US</dc:language>
  <cp:lastModifiedBy>Will Hopkins</cp:lastModifiedBy>
  <cp:revision>0</cp:revision>
  <dc:subject/>
  <dc:title>No Slide Title</dc:title>
</cp:coreProperties>
</file>